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BA19-758A-48E1-AC83-30BF29A4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A2C9-AF00-4322-9209-7DDE33CC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9BB3-C7CA-4817-BA38-7745A28F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3B60-FA24-4B91-8147-A661A0A2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321A-B1A2-4B21-8DDA-A26F2091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F7D-171F-400D-840F-BF2B27CA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FE25-DDF9-4ADE-B8F4-13266BC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12D2-1163-490F-9940-41AF174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1D2-76D9-4A20-A107-A2A88295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A18-0BE9-465B-8AA1-1626381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068E-2BC9-43BA-B98F-C1D42C1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E147-2F45-4A70-A20C-60B37E70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395F-6DB2-4F55-9397-3470D56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25E-0867-4494-8B6A-451B443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394-9EED-4323-B5E9-28E03F6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F28-7D78-441C-92F9-606F11C5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4B22-168F-4062-8254-F9899567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ECEA-AFC5-4C52-AAC6-78322B5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E7ED-73F8-4FF7-93F1-6832EF5A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BFDE-FFF6-4105-9ACD-70E1B027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B4CD-515C-44CF-8C24-CF1EA97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8168-1855-47CD-9FEA-B8BB50D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C3D6-BF1D-4B35-9D09-879402A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15CA-3546-4E03-A3A7-F6D45A1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BF61-21A8-46C3-AED4-0650D49824A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99A-A82D-47B2-8F19-CA5C2261A7D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LIFE OF A SOLDI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 NOTI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2549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O YOU NOTIC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0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Y WERE STILL HUM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2389320"/>
            <a:ext cx="3889440" cy="308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3807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GING 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25924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NING STAND 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761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FA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3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ILY CH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865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SSING THE T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152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ING STAND 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Draining Trenches"/>
          <p:cNvPicPr/>
          <p:nvPr/>
        </p:nvPicPr>
        <p:blipFill>
          <a:blip r:embed="rId2"/>
          <a:stretch/>
        </p:blipFill>
        <p:spPr>
          <a:xfrm>
            <a:off x="1692360" y="1628640"/>
            <a:ext cx="566892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TIES IN NO MANS L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10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NCH R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183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0:53:13Z</dcterms:created>
  <dc:creator>Catherine Boudreau</dc:creator>
  <dc:description/>
  <dc:language>en-US</dc:language>
  <cp:lastModifiedBy>Greg Peters</cp:lastModifiedBy>
  <dcterms:modified xsi:type="dcterms:W3CDTF">2009-11-18T12:13:41Z</dcterms:modified>
  <cp:revision>2</cp:revision>
  <dc:subject/>
  <dc:title>THE LIFE OF A SOLDIER</dc:title>
</cp:coreProperties>
</file>